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4C5-FFF9-404C-9F5F-3F5ECC9A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00E-A36C-4F9D-AA8B-D0B419DA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718-0FC3-4874-9FF6-F46A6B7A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FC3-3043-474C-AAC2-70D978DC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1BF-2D49-4C8F-9F7E-58385DA2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DF5-ACF3-46C7-8C0D-AA1A5D77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144-49D3-47C7-83AE-77E1D31D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B5A-D0E5-4157-8551-C1FAF5A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D3F-0445-4796-9BF3-CE1E43F3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D68-33F2-49D4-BCC0-8576ED0F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FD8-DA5C-4D84-9C8D-A591C4B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02B-4B4A-4F86-8C85-9AC44B0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7FF-57BC-401F-8901-6F0AA700587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7BA8-B9D0-47EE-BC52-0EA23A0AEA4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bandomoviez.net/db/pelicula.php?film=5822" TargetMode="External"/><Relationship Id="rId2" Type="http://schemas.openxmlformats.org/officeDocument/2006/relationships/hyperlink" Target="http://www.sean-connery.net/pelis/marni/index2.htm" TargetMode="External"/><Relationship Id="rId3" Type="http://schemas.openxmlformats.org/officeDocument/2006/relationships/hyperlink" Target="http://www.decine21.com/peliculas/la-estrategia-de-la-arana-3918" TargetMode="External"/><Relationship Id="rId4" Type="http://schemas.openxmlformats.org/officeDocument/2006/relationships/hyperlink" Target="http://es.movies.yahoo.com/l/la-insoportable-levedad-del-ser/index-19944.html" TargetMode="External"/><Relationship Id="rId5" Type="http://schemas.openxmlformats.org/officeDocument/2006/relationships/hyperlink" Target="mailto:http://www.cinefantastico.com/film.php?id=252" TargetMode="External"/><Relationship Id="rId6" Type="http://schemas.openxmlformats.org/officeDocument/2006/relationships/hyperlink" Target="http://www.cinefantastico.com/film.php?id=252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dipo Rey de Sófo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Referente Cinemat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oderosa Afrodit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6609-B254-4999-9E5C-FBBD0FD58F4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1285920" y="1595520"/>
            <a:ext cx="685800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Palatino Linotype"/>
                <a:hlinkClick r:id="rId1" action="ppaction://hlinksldjump"/>
              </a:rPr>
              <a:t>• </a:t>
            </a: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El motivo que provoca la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Palatino Linotype"/>
                <a:hlinkClick r:id="rId3" action="ppaction://hlinksldjump"/>
              </a:rPr>
              <a:t>• </a:t>
            </a: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Indicios de estar implicado en la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Palatino Linotype"/>
                <a:hlinkClick r:id="rId5" action="ppaction://hlinksldjump"/>
              </a:rPr>
              <a:t>•</a:t>
            </a: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 Resultado de la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• Poderosa Afrod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•Otras películas referentes a Edipo 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D546-1679-4B50-AD42-01820084468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otivo que provoca la investig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6 Flecha curvada hacia arriba">
            <a:hlinkClick r:id="rId1" action="ppaction://hlinksldjump"/>
          </p:cNvPr>
          <p:cNvSpPr/>
          <p:nvPr/>
        </p:nvSpPr>
        <p:spPr>
          <a:xfrm>
            <a:off x="8501040" y="6000840"/>
            <a:ext cx="357120" cy="428400"/>
          </a:xfrm>
          <a:custGeom>
            <a:avLst/>
            <a:gdLst>
              <a:gd name="textAreaLeft" fmla="*/ 55800 w 357120"/>
              <a:gd name="textAreaRight" fmla="*/ 256680 w 35712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43246"/>
                <a:lnTo>
                  <a:pt x="21452" y="4500"/>
                </a:lnTo>
                <a:lnTo>
                  <a:pt x="16200" y="0"/>
                </a:lnTo>
                <a:lnTo>
                  <a:pt x="10652" y="4500"/>
                </a:lnTo>
                <a:lnTo>
                  <a:pt x="13352" y="4500"/>
                </a:lnTo>
                <a:arcTo wR="6750" hR="21600" stAng="2056754" swAng="2877260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ellitoral.com/diarios/2009/07/15/escenariosysociedad/SOCI-04-web-images/3_opt.jpeg"/>
          <p:cNvPicPr/>
          <p:nvPr/>
        </p:nvPicPr>
        <p:blipFill>
          <a:blip r:embed="rId2"/>
          <a:stretch/>
        </p:blipFill>
        <p:spPr>
          <a:xfrm>
            <a:off x="5143680" y="1857240"/>
            <a:ext cx="3455640" cy="2357640"/>
          </a:xfrm>
          <a:prstGeom prst="rect">
            <a:avLst/>
          </a:prstGeom>
          <a:ln w="0">
            <a:noFill/>
          </a:ln>
        </p:spPr>
      </p:pic>
      <p:sp>
        <p:nvSpPr>
          <p:cNvPr id="50" name="4 CuadroTexto"/>
          <p:cNvSpPr/>
          <p:nvPr/>
        </p:nvSpPr>
        <p:spPr>
          <a:xfrm>
            <a:off x="857160" y="2286000"/>
            <a:ext cx="4000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igual que en Edipo rey, en la película Poderosa  Afrodita  podemos visualizar como su protagonista  Woody Allen pretende encontrar a la madre de su hijo adop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mbos niños fueron de alguna manera abandonados y aunque en Poderosa Afrodita es dado en adopción, al hacerse más grande ninguno de los dos niños sabe su verdadera exist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haudet Antoine Denis - Phorbas Bringing Oedipus Back to Life 1802-18 (marble)"/>
          <p:cNvPicPr/>
          <p:nvPr/>
        </p:nvPicPr>
        <p:blipFill>
          <a:blip r:embed="rId3"/>
          <a:stretch/>
        </p:blipFill>
        <p:spPr>
          <a:xfrm>
            <a:off x="5429160" y="4349880"/>
            <a:ext cx="1714680" cy="2290680"/>
          </a:xfrm>
          <a:prstGeom prst="rect">
            <a:avLst/>
          </a:prstGeom>
          <a:ln w="0">
            <a:noFill/>
          </a:ln>
        </p:spPr>
      </p:pic>
      <p:sp>
        <p:nvSpPr>
          <p:cNvPr id="52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48BA-6699-43C6-A4B0-378E7FA1118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dicios de estar implicado en la investig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Flecha curvada hacia arriba">
            <a:hlinkClick r:id="rId1" action="ppaction://hlinksldjump"/>
          </p:cNvPr>
          <p:cNvSpPr/>
          <p:nvPr/>
        </p:nvSpPr>
        <p:spPr>
          <a:xfrm>
            <a:off x="8572680" y="6000840"/>
            <a:ext cx="357120" cy="500040"/>
          </a:xfrm>
          <a:custGeom>
            <a:avLst/>
            <a:gdLst>
              <a:gd name="textAreaLeft" fmla="*/ 55800 w 357120"/>
              <a:gd name="textAreaRight" fmla="*/ 256680 w 3571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591271"/>
                <a:lnTo>
                  <a:pt x="21492" y="3857"/>
                </a:lnTo>
                <a:lnTo>
                  <a:pt x="16200" y="0"/>
                </a:lnTo>
                <a:lnTo>
                  <a:pt x="10692" y="3857"/>
                </a:lnTo>
                <a:lnTo>
                  <a:pt x="13392" y="3857"/>
                </a:lnTo>
                <a:arcTo wR="6750" hR="21600" stAng="1808729" swAng="3125284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[Edipo-Ingres.jpg]"/>
          <p:cNvPicPr/>
          <p:nvPr/>
        </p:nvPicPr>
        <p:blipFill>
          <a:blip r:embed="rId2"/>
          <a:stretch/>
        </p:blipFill>
        <p:spPr>
          <a:xfrm>
            <a:off x="6929280" y="3714840"/>
            <a:ext cx="1629000" cy="2163600"/>
          </a:xfrm>
          <a:prstGeom prst="rect">
            <a:avLst/>
          </a:prstGeom>
          <a:ln w="0">
            <a:noFill/>
          </a:ln>
        </p:spPr>
      </p:pic>
      <p:sp>
        <p:nvSpPr>
          <p:cNvPr id="56" name="6 CuadroTexto"/>
          <p:cNvSpPr/>
          <p:nvPr/>
        </p:nvSpPr>
        <p:spPr>
          <a:xfrm>
            <a:off x="3000240" y="1643040"/>
            <a:ext cx="3500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nque su referente argumental en el cine sea Poderosa Afrodita, ésta no presenta los indicios de estar implicado en la investigación, ya que su autor y director ha querido darle un giro a la trama y así dejar un final abierto a la imaginación del espec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Edipo, su protagonista se ve envuelta sin desearlo en su propia búsqueda del asesino de La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ttp://www.fflch.usp.br/dh/heros/personas/grecia/mitica/edipo/ensaios/PesteTebasJalabeatCgfajalabeat1.jpg"/>
          <p:cNvPicPr/>
          <p:nvPr/>
        </p:nvPicPr>
        <p:blipFill>
          <a:blip r:embed="rId3"/>
          <a:stretch/>
        </p:blipFill>
        <p:spPr>
          <a:xfrm>
            <a:off x="428760" y="1500120"/>
            <a:ext cx="2381040" cy="4781520"/>
          </a:xfrm>
          <a:prstGeom prst="rect">
            <a:avLst/>
          </a:prstGeom>
          <a:ln w="0">
            <a:noFill/>
          </a:ln>
        </p:spPr>
      </p:pic>
      <p:sp>
        <p:nvSpPr>
          <p:cNvPr id="58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5437-1563-4BBC-B1FB-787A1EE4ABF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sultado final de la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0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1468-A827-48DD-9DCE-64FCD36C1D4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Flecha curvada hacia arriba">
            <a:hlinkClick r:id="rId1" action="ppaction://hlinksldjump"/>
          </p:cNvPr>
          <p:cNvSpPr/>
          <p:nvPr/>
        </p:nvSpPr>
        <p:spPr>
          <a:xfrm>
            <a:off x="8572680" y="5857920"/>
            <a:ext cx="357120" cy="500040"/>
          </a:xfrm>
          <a:custGeom>
            <a:avLst/>
            <a:gdLst>
              <a:gd name="textAreaLeft" fmla="*/ 55800 w 357120"/>
              <a:gd name="textAreaRight" fmla="*/ 256680 w 3571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591271"/>
                <a:lnTo>
                  <a:pt x="21492" y="3857"/>
                </a:lnTo>
                <a:lnTo>
                  <a:pt x="16200" y="0"/>
                </a:lnTo>
                <a:lnTo>
                  <a:pt x="10692" y="3857"/>
                </a:lnTo>
                <a:lnTo>
                  <a:pt x="13392" y="3857"/>
                </a:lnTo>
                <a:arcTo wR="6750" hR="21600" stAng="1808729" swAng="3125284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www.cineismo.com/criticas/afrodit3.jpg"/>
          <p:cNvPicPr/>
          <p:nvPr/>
        </p:nvPicPr>
        <p:blipFill>
          <a:blip r:embed="rId2"/>
          <a:stretch/>
        </p:blipFill>
        <p:spPr>
          <a:xfrm>
            <a:off x="6286680" y="1643040"/>
            <a:ext cx="2304720" cy="1619280"/>
          </a:xfrm>
          <a:prstGeom prst="rect">
            <a:avLst/>
          </a:prstGeom>
          <a:ln w="0">
            <a:noFill/>
          </a:ln>
        </p:spPr>
      </p:pic>
      <p:sp>
        <p:nvSpPr>
          <p:cNvPr id="63" name="7 CuadroTexto"/>
          <p:cNvSpPr/>
          <p:nvPr/>
        </p:nvSpPr>
        <p:spPr>
          <a:xfrm>
            <a:off x="3286080" y="17146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   Hacer clic enci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Flecha izquierda"/>
          <p:cNvSpPr/>
          <p:nvPr/>
        </p:nvSpPr>
        <p:spPr>
          <a:xfrm>
            <a:off x="3500280" y="1785960"/>
            <a:ext cx="214560" cy="214200"/>
          </a:xfrm>
          <a:prstGeom prst="leftArrow">
            <a:avLst>
              <a:gd name="adj1" fmla="val 50000"/>
              <a:gd name="adj2" fmla="val 50084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oderosa2(2).avi" descr=""/>
          <p:cNvPicPr/>
          <p:nvPr/>
        </p:nvPicPr>
        <p:blipFill>
          <a:blip r:embed="rId3"/>
          <a:stretch/>
        </p:blipFill>
        <p:spPr>
          <a:xfrm>
            <a:off x="1071720" y="1714680"/>
            <a:ext cx="2143080" cy="1753920"/>
          </a:xfrm>
          <a:prstGeom prst="rect">
            <a:avLst/>
          </a:prstGeom>
          <a:ln w="0">
            <a:noFill/>
          </a:ln>
        </p:spPr>
      </p:pic>
      <p:sp>
        <p:nvSpPr>
          <p:cNvPr id="66" name="18 CuadroTexto"/>
          <p:cNvSpPr/>
          <p:nvPr/>
        </p:nvSpPr>
        <p:spPr>
          <a:xfrm>
            <a:off x="1143000" y="3714840"/>
            <a:ext cx="692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darse cuenta del infortunio que ha provocado sin saberlo Edipo decide arrancarse los ojos, para así no poder nunca ver el fruto de su desgracia, sus hij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Poderosa Afrodita, Lenny encuentra a la madre de su hijo adoptivo, que resulta ser una prostituta, el quiere ayudarla incitándola a que deje la prostitución, así finalmente ella deja su trabajo y consigue formar una familia con su marido, aunque lo que no cuenta a nadie es que la niña no es fruto de su marido, sino de Len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derosa Afrod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33C0-7369-44CE-A5A6-9E7263B2B0D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CuadroTexto"/>
          <p:cNvSpPr/>
          <p:nvPr/>
        </p:nvSpPr>
        <p:spPr>
          <a:xfrm>
            <a:off x="1143000" y="1428840"/>
            <a:ext cx="5786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poderosa Afrodita (1995) Woody Allen, cineasta de inspiración literaria, hace una nueva y genial lectura de Edipo Rey. Parte de la temática de la tragedia de Sófocles Edipo, rey para llegar a tratar el problema de las adopciones y los hijos biológ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tiliza el canon griego de la tragedia (con el coro, el corifeo, deus ex machina y la intervención de los principales personajes trágicos: Casandra, Tiresias, etc.) pero en tono de co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e film mantiene la misma estructura que tenía la tragedia de Edipo rey gracias a la intervención desde el teatro de Taormina de un coro que canta las ironías que la vida depara a lo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 Flecha curvada hacia arriba">
            <a:hlinkClick r:id="rId1" action="ppaction://hlinksldjump"/>
          </p:cNvPr>
          <p:cNvSpPr/>
          <p:nvPr/>
        </p:nvSpPr>
        <p:spPr>
          <a:xfrm>
            <a:off x="8358120" y="5786280"/>
            <a:ext cx="285840" cy="428760"/>
          </a:xfrm>
          <a:custGeom>
            <a:avLst/>
            <a:gdLst>
              <a:gd name="textAreaLeft" fmla="*/ 44640 w 285840"/>
              <a:gd name="textAreaRight" fmla="*/ 205560 w 2858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695466"/>
                <a:lnTo>
                  <a:pt x="21506" y="3600"/>
                </a:lnTo>
                <a:lnTo>
                  <a:pt x="16200" y="0"/>
                </a:lnTo>
                <a:lnTo>
                  <a:pt x="10706" y="3600"/>
                </a:lnTo>
                <a:lnTo>
                  <a:pt x="13406" y="3600"/>
                </a:lnTo>
                <a:arcTo wR="6750" hR="21600" stAng="1704534" swAng="3229480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tras películas referentes a Edipo r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0B25-3029-41CF-BE5F-6D99B185FBB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1143000" y="1571760"/>
            <a:ext cx="66438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• Recuerda (19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•Marnie, la ladrona (19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•La estrategia de la araña (19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 •La insoportable levedad del ser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• Desafío total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chica terrible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caja de música (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emento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0 CuadroTexto"/>
          <p:cNvSpPr/>
          <p:nvPr/>
        </p:nvSpPr>
        <p:spPr>
          <a:xfrm>
            <a:off x="2000160" y="645804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alizado por: Lorena Oliver Le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artel"/>
          <p:cNvPicPr/>
          <p:nvPr/>
        </p:nvPicPr>
        <p:blipFill>
          <a:blip r:embed="rId7"/>
          <a:stretch/>
        </p:blipFill>
        <p:spPr>
          <a:xfrm>
            <a:off x="7000920" y="1357200"/>
            <a:ext cx="1428840" cy="1847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La insoportable levedad del ser"/>
          <p:cNvPicPr/>
          <p:nvPr/>
        </p:nvPicPr>
        <p:blipFill>
          <a:blip r:embed="rId8"/>
          <a:stretch/>
        </p:blipFill>
        <p:spPr>
          <a:xfrm>
            <a:off x="4929120" y="3857760"/>
            <a:ext cx="15051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http://1.bp.blogspot.com/__kdloiikFIQ/Sp3b7N5lmtI/AAAAAAAAiok/IfUhXXOug44/s320/1945recuerda3vp0.jpg"/>
          <p:cNvPicPr/>
          <p:nvPr/>
        </p:nvPicPr>
        <p:blipFill>
          <a:blip r:embed="rId9"/>
          <a:stretch/>
        </p:blipFill>
        <p:spPr>
          <a:xfrm>
            <a:off x="7000920" y="3643200"/>
            <a:ext cx="188280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39:14Z</dcterms:created>
  <dc:creator>L&amp;M</dc:creator>
  <dc:description/>
  <dc:language>en-US</dc:language>
  <cp:lastModifiedBy>L&amp;M</cp:lastModifiedBy>
  <dcterms:modified xsi:type="dcterms:W3CDTF">2010-05-17T19:13:39Z</dcterms:modified>
  <cp:revision>46</cp:revision>
  <dc:subject/>
  <dc:title>Edipo Rey de Sófocles</dc:title>
</cp:coreProperties>
</file>